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7B1-CDE6-4E8E-B120-F0CA90A2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267-BD05-4B45-8884-F4C6C646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E95-7221-4D3B-A0CA-05823F9D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0F9-8E3B-466E-BCDB-4FD17A9B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E883-09DC-4DB5-BD5C-7FF39BA1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DD98-ED0A-406A-8B5A-5A4BE8E6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9B06-C589-40F7-90B9-308D6180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8434-2676-432F-B433-E8047E4A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6061-A36C-4462-819F-8757E03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07DD-F3E0-443D-B2E3-2971AF9A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DB1C-4D25-47A2-BCC7-96DCBE5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084-5A6F-4487-81F2-F4C138FA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99CC-F1E3-49E3-AA61-FD15CEE1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F1A8-6F95-464A-B46C-5FA3E03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6B82-D397-40FD-B8B4-37D06965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C3A2-EC6A-415C-A7A7-B4575294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3302-220D-4265-BE6B-1FF7558B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718-537A-44B4-B6D5-F56AAEB2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AF7-7ECE-430F-AA74-1A850C33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A25-D2DB-4C2B-9CDA-57EDEB5D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59F-0777-40DB-A99B-399EDE6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711-28BC-4DF2-B6D2-A4B64C7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E4F-CA4F-4E79-996E-1F5FDF7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4D5-BAF5-43D6-8E7A-FD9B76F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15DC-A008-4D05-8833-72442C7848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773C-822E-407A-9CA7-ED11A6431C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4876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ne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a key. Include both alleles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= pointed 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= round 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a “cross” to show the parents’ genotyp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one= 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two= 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the parents’ genotypes (letters) around the outside of the square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048120"/>
            <a:ext cx="4572000" cy="2971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666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20040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057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3733920"/>
            <a:ext cx="733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Fill in the square- copy letters down and acros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048120"/>
            <a:ext cx="4572000" cy="2971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666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20040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2057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733920"/>
            <a:ext cx="733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505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809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4038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181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5627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the percentage chance for the offspring’s genotyp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895480"/>
            <a:ext cx="4572000" cy="2971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343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2514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04812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905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81280"/>
            <a:ext cx="733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3352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124080"/>
            <a:ext cx="2590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= PP (Homozygous Domin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= Pp (Heterozygo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= pp (Homozygous Reces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Write the percentage chance for the offspring’s phenotyp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048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5% chance of having Pointed 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y i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ertain species of dog, a black nose is dominant over a pink n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genotypes and phenotypes of a cross between a purebred dominant male dog and a purebred recessive fem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ere are the Step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key. Include both all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“cross” to show the parents’ gen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parents’ genotypes (letters) around the outside of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square- copy letters down and a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percentage chance for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pring’s g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percentage chance for the offspring’s ph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ndel’s Laws of Hered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800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eb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9836" b="3708"/>
          <a:stretch/>
        </p:blipFill>
        <p:spPr>
          <a:xfrm>
            <a:off x="0" y="19810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800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zygous reces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zygous domin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3708"/>
          <a:stretch/>
        </p:blipFill>
        <p:spPr>
          <a:xfrm>
            <a:off x="0" y="1981080"/>
            <a:ext cx="472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78000" y="159984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48320" y="2209680"/>
            <a:ext cx="388620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ll = domi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warf = rec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never be heterozygous recess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2964" r="0" b="61120"/>
          <a:stretch/>
        </p:blipFill>
        <p:spPr>
          <a:xfrm>
            <a:off x="5057640" y="2187720"/>
            <a:ext cx="3451320" cy="117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7800" y="410688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otype =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type =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tics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al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lial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hybrid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ing between individuals focussed on one tr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6677"/>
          <a:stretch/>
        </p:blipFill>
        <p:spPr>
          <a:xfrm>
            <a:off x="5089680" y="2133720"/>
            <a:ext cx="3452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teps to solving Punnett Squar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ample #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ertain species of mouse, pointed ears are dominant over round 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genotypes and phenotypes of a cross between two hybrid pointed-eared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01:11:03Z</dcterms:created>
  <dc:creator>Barb Lalevee</dc:creator>
  <dc:description/>
  <dc:language>en-US</dc:language>
  <cp:lastModifiedBy>Tricia</cp:lastModifiedBy>
  <dcterms:modified xsi:type="dcterms:W3CDTF">2007-02-21T22:42:40Z</dcterms:modified>
  <cp:revision>30</cp:revision>
  <dc:subject/>
  <dc:title>No Slide Title</dc:title>
</cp:coreProperties>
</file>